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1D1-DB86-4253-9804-18A62308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3BC7-967E-47A2-B717-C2B5940A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6D8-988B-4DBA-A3A0-2868E6EF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49C1-F82E-493A-8EFD-3E541964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77ED-4DA6-4C36-A06C-79E34BA8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ADC-97A6-4DEA-8B92-8EA0ECB2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7D9D-BD36-4690-AA20-FA78ADDA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FEB3-DF16-4F23-9F20-780C051E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947-F5CC-4D86-9447-D4DF2208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9E0-534B-482D-9E72-C970D6CB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BC9-24DF-4EFB-93D6-5EA5D56A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711C-E6B0-42B2-B8BC-E3F58A12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EA54-4FCA-4443-ADDC-B7D68E269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Figyelj, titkot mondok el, A szeretet titká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Szívem mélye rejti el, Életem ez formálta á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Halleluja, örök királyom, társam, megváltóm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Értem folyt ki a vér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Értem folyt ki a vér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Értem folyt ki a vér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Értem folyt, értem foly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836640"/>
            <a:ext cx="88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Titkom halkan terjed el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Eléri a világ négy sarká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És minden férfi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minden nő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feltartja szétszakadt láncá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Halleluja, örök királyom, társam, megváltóm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Értem folyt ki a vér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Értem folyt ki a vér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Értem folyt ki a vér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Értem folyt, értem foly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44720" y="1268280"/>
            <a:ext cx="7920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Szabad ének zengje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(Szabad ének zengje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Dicsérd Őt a mennyel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(Hol helyet készít Ő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26920" y="1855440"/>
            <a:ext cx="7777440" cy="34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Szeret, megtart tég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Vére folyt, érted folyt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(Vére folyt, érted folyt!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Értem folyt ki a vér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Értem folyt ki a vér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Értem folyt ki a vér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Book Antiqua"/>
              </a:rPr>
              <a:t>Értem folyt, értem foly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6:32:17Z</dcterms:created>
  <dc:creator>Balázs</dc:creator>
  <dc:description/>
  <dc:language>en-US</dc:language>
  <cp:lastModifiedBy>Balázs</cp:lastModifiedBy>
  <dcterms:modified xsi:type="dcterms:W3CDTF">2008-01-24T12:25:34Z</dcterms:modified>
  <cp:revision>10</cp:revision>
  <dc:subject/>
  <dc:title>Figyelj, titkot mondok el, A szeretet titkát Szívem mélye rejti el, Életem ez formálta át.</dc:title>
</cp:coreProperties>
</file>